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10.png" ContentType="image/png"/>
  <Override PartName="/ppt/media/image9.png" ContentType="image/png"/>
  <Override PartName="/ppt/media/image7.jpeg" ContentType="image/jpeg"/>
  <Override PartName="/ppt/media/image6.png" ContentType="image/png"/>
  <Override PartName="/ppt/media/image29.png" ContentType="image/png"/>
  <Override PartName="/ppt/media/image5.jpeg" ContentType="image/jpeg"/>
  <Override PartName="/ppt/media/image8.jpeg" ContentType="image/jpeg"/>
  <Override PartName="/ppt/media/image28.png" ContentType="image/png"/>
  <Override PartName="/ppt/media/image4.png" ContentType="image/png"/>
  <Override PartName="/ppt/media/image27.png" ContentType="image/png"/>
  <Override PartName="/ppt/media/image25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98280" y="771120"/>
            <a:ext cx="5102280" cy="38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199120" cy="4593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2"/>
          </p:nvPr>
        </p:nvSpPr>
        <p:spPr>
          <a:xfrm>
            <a:off x="4022640" y="9723240"/>
            <a:ext cx="3068640" cy="502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FBF19-503C-4959-8747-B90298D62F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3B5DD-E73F-4134-822A-E728678629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CD41F-5912-4B92-ABB7-C8254A78DA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2601B-D27B-4F4C-8BFE-27C3150A40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1C189-B2E4-458D-A6E6-6D871213F9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EFD12-5323-443D-8554-D8042FED75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3C469-1605-4F0F-8490-8BF97125ED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37EBB-9E0C-4BCD-801C-1629AE24C0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429CC-95C2-4CC3-AB33-73240E0601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9B018-0A29-4477-9A3F-DC178754AA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E9BFB-28BF-478F-A112-4F3ECB8CA9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5F591-7B73-4429-BF1B-5B7496289B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2FE6D-7165-4BB8-A044-FC3D551019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C0D14-CC0A-4691-A30B-890B862BC4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1FE59-7E4A-4FAE-9BDF-41E876B692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4B09F-BA1E-426B-BFD4-F541D5DF21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F3982-C467-4039-91DA-D0AD2D2ED5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86744-953A-40D0-A055-06118EE5ED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BBCB1-4390-4799-8A16-CA9A0871F2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FB48D-F634-4043-B4B4-2461E7A2EE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F379A-2A7C-4CB4-83F7-B086290522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8FE79-1D30-418F-B2B4-68BD0D4289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5A804-E6A1-486E-94E1-4CF31EB2B0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3EB97-B8A5-40D6-B9B5-990C8B2490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A7F12-0405-49E6-A27B-E6A607D3B8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25E74-D322-4D00-9D96-0657D51946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1168A-8030-4A77-946D-C96F91998D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EB62F-1111-4331-A588-DF7906ADF3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2F9E2-91E5-4B78-BE8F-2CCFCC476F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2CA9F-11FE-489D-BAC3-CE36B025BC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80138-0B3E-43EB-9D7E-3D58F596FE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42F82-B3EF-4F3A-95A1-39F2E111AA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20212-1736-4B94-AF38-58ECBC2874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C05DE-6EA6-4AF7-9F04-472F4F8A02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64FE0-0046-4CA3-81E7-88BFD81636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057E0-4193-40BA-9626-E785FC5512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B82A2-E1C0-4188-8634-84D4B0A880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9F576-98E1-4258-BD8B-3E21E84593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673BD-5216-4582-9B10-BD2BC3BB67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9AF90-3CFE-4089-980B-FB849B6E09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BFE5B-BAC6-4AD5-A16D-449913E7A6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DFD91-685F-48A5-9DA6-5D71D2875F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F43EE-F768-4500-A89C-1A594EF7FD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DDB30-4B53-47C5-AAED-4A09D664B9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0A0D7-AABF-4EE8-9025-802AEF04C3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1F23C-3874-4AF3-837D-92752F925E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B5799-89F0-4332-977D-3C9DAA8E98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2FDC7-D802-47E8-A80D-71E918B1E4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FD43D-3245-4E16-9CDD-21DF061730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0BCE9-7E8C-4769-9AC8-2A470FC49F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CC151-EED6-4829-9B05-FCB440EAB9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5FFDB-0CDB-42B1-AE1D-85BAB7F9B7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E654D-2AF7-46A9-961C-0A52F6CBE1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BB6FC-08A3-4F9B-BF7D-AE1DC77A1F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24AC5-232D-48C6-B26E-920D33DDCE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E884B-4FF9-48FE-8DFD-0B816C3A21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E6D72-F94B-4A36-8DB3-507758F80B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F2270-A891-4519-97F8-149DEB5CAD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57EBE-6A03-4B1C-942D-B13FA16C1B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31AD6-D467-43D5-81C9-EBADE49F7D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6CFC4-A321-4CF0-B2F7-EB0D87F620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8019F-D393-4085-8A92-4A538CBFF8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D6A42-FC1F-454A-B7CC-D74DB70583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76AE5-BE34-4A6E-9EC1-9EAA4FC8F0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2A8D2-C252-4BD4-9718-5E823BC06F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EC8A2-7E56-4B78-8F22-5D876459CF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3C771-CC07-49BD-AC1E-4F1651DE8B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64356-19FC-4B1E-898C-F566FB8882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95D8B-CB8E-4F4E-AA04-F4327F1882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4D869-691C-47FF-8933-42E05521F1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A9672-8097-4500-96D2-2531010A4A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A347B-B217-44C4-99C5-48E6EBD7AB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41CC8-2D69-4833-9F45-8E655A1151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490F2-3BE0-463E-8398-DC3005E060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21518-35E0-4D9A-BDDB-1D471D55F6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FC583-524F-41DF-B5EB-BBD0FCB565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2103E-7467-4EAE-BD47-7B6FB27821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1CB76-09A9-4741-93FC-08F4CA39B1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BB9FB-7917-48A9-9BCE-2244B5712B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B0EFF-D6EA-4DBF-B577-887A5DC82A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BBCD9-DCF7-464C-BF03-DD83F0FCED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DB674-50AA-4DDB-B834-FC04A41543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698CE-31B7-4AC8-B5AE-45C490DC8F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2F129-00CA-4E8B-9FFA-B2D60728A9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14282-10D2-471E-B278-3C9D43FBAC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35A42-79A5-457D-9120-FC461B0F12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4B872-18A4-4F39-9093-82E3ACD727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A786B-1286-402D-AEDF-D3DAEE406C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4F72F-7B20-4756-805F-4E8DE16E87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C15D5-61E9-4F98-B929-F1B98F4D4C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DEF82-D293-4BF0-86EA-11D77906CE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780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104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492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780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104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37A92-C527-4016-938A-62686C01AB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5956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48D61-7D0C-49D8-BCF2-824D43BC7C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8780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7104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0492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8780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7104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4C880-217F-45A7-9108-B8D9299764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BFC5E-0D2C-4600-8566-B4CAA2B72D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06A99-FC5A-43EB-802F-0DE0CEE27C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5956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90BE5-9FC2-4DEF-A052-F4C9D882A7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F975C-E41E-43D6-BCBF-F35CDA40CE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D22CE-B750-4311-A785-51E03AAEEF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9D530-0E56-4233-A750-B99C66DE5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186760" y="6496200"/>
            <a:ext cx="906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F865B-7986-4F3E-850C-0D22E00680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7b1c15"/>
          </a:solidFill>
          <a:ln w="9360">
            <a:solidFill>
              <a:srgbClr val="63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7b1c15"/>
          </a:solidFill>
          <a:ln w="9360">
            <a:solidFill>
              <a:srgbClr val="63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www.ida.liu.se/labs/pelab/modelica/OpenModelica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685800" y="56196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7b1c15"/>
                </a:solidFill>
                <a:latin typeface="Trebuchet MS"/>
              </a:rPr>
              <a:t>OpenModelica Eclipse Plugin and </a:t>
            </a:r>
            <a:br>
              <a:rPr sz="4800"/>
            </a:br>
            <a:r>
              <a:rPr b="0" lang="en-GB" sz="4800" spc="-1" strike="noStrike">
                <a:solidFill>
                  <a:srgbClr val="7b1c15"/>
                </a:solidFill>
                <a:latin typeface="Trebuchet MS"/>
              </a:rPr>
              <a:t>MetaModelica Exercis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1042920" y="3213000"/>
            <a:ext cx="712944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drian P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rebuchet MS"/>
              </a:rPr>
              <a:t>adrian.pop@liu.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PELAB/IDA/LIU,  2007-03-2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Last Updated 2011-09-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by Peter Fritzson and Martin Sjölu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3E467-1EB8-440D-B50B-CEBA40381BD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ose all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D4249-7A60-4767-B53D-5AA2D5460FD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witch to Modelica Persp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5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92E4E-0161-4F7A-B0A7-8830C111813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how the OpenModelica Console 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5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6E60F-668F-4F69-B432-3782C827B53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-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0_simplesi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perform a simple simulation in the MDT Eclipse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ype or copy a simple model into an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Open the Eclipse view “OpenModelica consol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imulate with the simulate com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plot with the plot comma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Note: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following exercises you will no longer use the “OpenModelica consol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DA438-7FFE-4D46-A824-D578A55C3C3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01 - 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6032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(02b_exp2 option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 (option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36DAD-BBFC-4176-84F8-3DF9305EEA7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pen the first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0" y="720720"/>
            <a:ext cx="6534000" cy="36003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DBE170-A49D-42A4-BAD3-BDDE9466DE1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uild the first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4"/>
          <p:cNvSpPr/>
          <p:nvPr/>
        </p:nvSpPr>
        <p:spPr>
          <a:xfrm flipH="1">
            <a:off x="1971720" y="2700360"/>
            <a:ext cx="91440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5"/>
          <p:cNvSpPr/>
          <p:nvPr/>
        </p:nvSpPr>
        <p:spPr>
          <a:xfrm flipV="1">
            <a:off x="3780000" y="1254240"/>
            <a:ext cx="1979280" cy="1812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616040" y="2049480"/>
            <a:ext cx="709956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use Rebuild Project or the but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ild Project only works if you modify a source fi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having pressed the button once, Alt+B can be 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2BAD2-37B2-4415-9EF3-756A2803638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Building a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351640" cy="6264360"/>
          </a:xfrm>
          <a:prstGeom prst="rect">
            <a:avLst/>
          </a:prstGeom>
          <a:ln w="0">
            <a:noFill/>
          </a:ln>
        </p:spPr>
      </p:pic>
      <p:sp>
        <p:nvSpPr>
          <p:cNvPr id="148" name="Line 4"/>
          <p:cNvSpPr/>
          <p:nvPr/>
        </p:nvSpPr>
        <p:spPr>
          <a:xfrm flipH="1">
            <a:off x="4564080" y="2133720"/>
            <a:ext cx="736560" cy="237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709080" y="1440000"/>
            <a:ext cx="420840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4928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leans the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4928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runs the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6"/>
          <p:cNvSpPr/>
          <p:nvPr/>
        </p:nvSpPr>
        <p:spPr>
          <a:xfrm flipH="1" flipV="1">
            <a:off x="2835360" y="4861080"/>
            <a:ext cx="1744560" cy="131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7"/>
          <p:cNvSpPr/>
          <p:nvPr/>
        </p:nvSpPr>
        <p:spPr>
          <a:xfrm flipV="1">
            <a:off x="1619280" y="4861080"/>
            <a:ext cx="431640" cy="736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220680" y="5580000"/>
            <a:ext cx="382608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ntax problem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pd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save in the problems vie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4586040" y="5950080"/>
            <a:ext cx="35899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ild and run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displayed i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2E8AD-648F-4006-9753-895A89CE05C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1042920" y="0"/>
            <a:ext cx="810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MC Debug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52948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0_simplesim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1_experimen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2a_exp1, (02b_exp2 optional)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3_symbolicderivativ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4_assignment (optional)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9CE50-D43C-4F81-8D43-2D5191AF504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bugging using OM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Very recent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Run target “deps” to build depend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n run the debug targ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Note: Programs that require stdin do not work yet (Eclipse does not send EOF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You can print data structures using printAny(x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9615E-DB8E-41F2-B520-B62D85D0861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penModelica MDT – Eclipse Plug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Browsing of packages, classes,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utomatic building of executables;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eparate compi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yntax highligh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de completion,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de query support for develop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utomatic Ind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Debugger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(Prel. version for algorithmic subse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5956200" y="1692360"/>
            <a:ext cx="2990880" cy="37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473BF-1620-4F7B-BE5E-9CF2540D96F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539640" y="0"/>
            <a:ext cx="860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ting the debug configu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3" descr=""/>
          <p:cNvPicPr/>
          <p:nvPr/>
        </p:nvPicPr>
        <p:blipFill>
          <a:blip r:embed="rId1"/>
          <a:stretch/>
        </p:blipFill>
        <p:spPr>
          <a:xfrm>
            <a:off x="457200" y="569880"/>
            <a:ext cx="8001000" cy="50673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39C39-9BEC-473F-A4ED-67FB58222FB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up the debug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Group 1"/>
          <p:cNvGrpSpPr/>
          <p:nvPr/>
        </p:nvGrpSpPr>
        <p:grpSpPr>
          <a:xfrm>
            <a:off x="5028840" y="1108080"/>
            <a:ext cx="3940560" cy="1182600"/>
            <a:chOff x="5028840" y="1108080"/>
            <a:chExt cx="3940560" cy="1182600"/>
          </a:xfrm>
        </p:grpSpPr>
        <p:sp>
          <p:nvSpPr>
            <p:cNvPr id="167" name="Line 4"/>
            <p:cNvSpPr/>
            <p:nvPr/>
          </p:nvSpPr>
          <p:spPr>
            <a:xfrm flipH="1">
              <a:off x="5028840" y="1941480"/>
              <a:ext cx="1523880" cy="349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Text Box 5"/>
            <p:cNvSpPr/>
            <p:nvPr/>
          </p:nvSpPr>
          <p:spPr>
            <a:xfrm>
              <a:off x="5562360" y="1108080"/>
              <a:ext cx="3407040" cy="8254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location where you installed OpenModelic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Group 8"/>
          <p:cNvGrpSpPr/>
          <p:nvPr/>
        </p:nvGrpSpPr>
        <p:grpSpPr>
          <a:xfrm>
            <a:off x="174600" y="960480"/>
            <a:ext cx="3406680" cy="1554120"/>
            <a:chOff x="174600" y="960480"/>
            <a:chExt cx="3406680" cy="1554120"/>
          </a:xfrm>
        </p:grpSpPr>
        <p:sp>
          <p:nvSpPr>
            <p:cNvPr id="170" name="Text Box 5"/>
            <p:cNvSpPr/>
            <p:nvPr/>
          </p:nvSpPr>
          <p:spPr>
            <a:xfrm>
              <a:off x="174600" y="960480"/>
              <a:ext cx="340668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project direct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Line 4"/>
            <p:cNvSpPr/>
            <p:nvPr/>
          </p:nvSpPr>
          <p:spPr>
            <a:xfrm>
              <a:off x="1877760" y="1424160"/>
              <a:ext cx="1475280" cy="1090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Group 11"/>
          <p:cNvGrpSpPr/>
          <p:nvPr/>
        </p:nvGrpSpPr>
        <p:grpSpPr>
          <a:xfrm>
            <a:off x="174600" y="2669760"/>
            <a:ext cx="7750080" cy="662040"/>
            <a:chOff x="174600" y="2669760"/>
            <a:chExt cx="7750080" cy="662040"/>
          </a:xfrm>
        </p:grpSpPr>
        <p:sp>
          <p:nvSpPr>
            <p:cNvPr id="173" name="Text Box 5"/>
            <p:cNvSpPr/>
            <p:nvPr/>
          </p:nvSpPr>
          <p:spPr>
            <a:xfrm>
              <a:off x="174600" y="2872080"/>
              <a:ext cx="775008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GNU debugger (not Microsoft/Apple-provided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Line 4"/>
            <p:cNvSpPr/>
            <p:nvPr/>
          </p:nvSpPr>
          <p:spPr>
            <a:xfrm flipV="1">
              <a:off x="2851560" y="2669760"/>
              <a:ext cx="501120" cy="20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5B537-1306-44C8-A0A8-52BE4666E43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 breakpoints in .mo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78" name="Line 4"/>
          <p:cNvSpPr/>
          <p:nvPr/>
        </p:nvSpPr>
        <p:spPr>
          <a:xfrm flipH="1" flipV="1">
            <a:off x="2043000" y="2916000"/>
            <a:ext cx="1548000" cy="159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2411280" y="4508640"/>
            <a:ext cx="31687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click on the ruler to set break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E79B2-A5B7-4309-8DB4-0DB22D097FF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395280" y="0"/>
            <a:ext cx="8748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un the debug configuration to start debug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83" name="Line 4"/>
          <p:cNvSpPr/>
          <p:nvPr/>
        </p:nvSpPr>
        <p:spPr>
          <a:xfrm flipH="1" flipV="1">
            <a:off x="963720" y="973080"/>
            <a:ext cx="1619280" cy="3176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403280" y="4149720"/>
            <a:ext cx="3384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and select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 configu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bugging will sta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BD3A0-402D-407D-B700-C161EB88839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clipse will ask to switch to debugging perspec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4251D-8C12-4F2E-9616-6110EAE4A3D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bugging persp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91" name="Line 4"/>
          <p:cNvSpPr/>
          <p:nvPr/>
        </p:nvSpPr>
        <p:spPr>
          <a:xfrm flipV="1">
            <a:off x="1763640" y="1333440"/>
            <a:ext cx="2016360" cy="3471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39640" y="4797360"/>
            <a:ext cx="316872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buttons to ste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6"/>
          <p:cNvSpPr/>
          <p:nvPr/>
        </p:nvSpPr>
        <p:spPr>
          <a:xfrm flipV="1">
            <a:off x="5219640" y="1620360"/>
            <a:ext cx="360360" cy="2824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4643280" y="4508640"/>
            <a:ext cx="3168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 variables he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there is a tab with breakpoi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9C902-7210-4183-8288-6B3450BC4C0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witching perspec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-36360" y="620640"/>
            <a:ext cx="9180360" cy="5738760"/>
          </a:xfrm>
          <a:prstGeom prst="rect">
            <a:avLst/>
          </a:prstGeom>
          <a:ln w="0">
            <a:noFill/>
          </a:ln>
        </p:spPr>
      </p:pic>
      <p:sp>
        <p:nvSpPr>
          <p:cNvPr id="198" name="Line 4"/>
          <p:cNvSpPr/>
          <p:nvPr/>
        </p:nvSpPr>
        <p:spPr>
          <a:xfrm flipV="1">
            <a:off x="4448160" y="1476000"/>
            <a:ext cx="3579840" cy="303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276720" y="4508640"/>
            <a:ext cx="352728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between Debug and Modelica Persp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54BA3-8776-4477-A1A1-213A5943F22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Creating the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repeat the procedure for all exerci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02b_exp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a_assigntwo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b_modassigntwo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6_advanc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7_OMCAndCor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leave open only the project you are working on!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ose all the ot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F972D-A4DA-48E1-875F-0993A373C86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Building a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198360" y="620640"/>
            <a:ext cx="862164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0DBA2-6D3F-477D-9957-61E3037D786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Opening vie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396720" y="620640"/>
            <a:ext cx="8352000" cy="6264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"/>
          <p:cNvPicPr/>
          <p:nvPr/>
        </p:nvPicPr>
        <p:blipFill>
          <a:blip r:embed="rId2"/>
          <a:stretch/>
        </p:blipFill>
        <p:spPr>
          <a:xfrm>
            <a:off x="5580000" y="836640"/>
            <a:ext cx="2924280" cy="5819760"/>
          </a:xfrm>
          <a:prstGeom prst="rect">
            <a:avLst/>
          </a:prstGeom>
          <a:ln w="0">
            <a:noFill/>
          </a:ln>
        </p:spPr>
      </p:pic>
      <p:sp>
        <p:nvSpPr>
          <p:cNvPr id="210" name="Line 5"/>
          <p:cNvSpPr/>
          <p:nvPr/>
        </p:nvSpPr>
        <p:spPr>
          <a:xfrm>
            <a:off x="4572000" y="2060640"/>
            <a:ext cx="100800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733400" y="5445000"/>
            <a:ext cx="38275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open additional view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7b1c15"/>
                </a:solidFill>
                <a:latin typeface="Times New Roman"/>
              </a:rPr>
              <a:t>Window-&gt;ShowView-&gt;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190C10-A7A2-4FAA-8A96-8A4ED054342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Eclipse and Exercise Set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ll Exerci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0_simples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02b_exp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a_assigntwo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b_modassigntwo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6_advanc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7_OMCAndCor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8-11 – as samples of Prog. Lang. mode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DF92E-139F-4131-81DD-757E0AE4498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25280" y="914400"/>
            <a:ext cx="8839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Each exercise is in a different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All exercises hav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README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- information about the exerc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SOLUTION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– the solution of the exercise (if the exercise has some implementation assign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program.txt</a:t>
            </a:r>
            <a:r>
              <a:rPr b="1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– input program to the exercise, edit if needed (for the exercises which have an inpu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nsult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MetaModelica Programming Guid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(1.0 Draft or 2.0) and the slides if you need additional information during the exercis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Of course, feel free to ask us any type of questions, it is faster and bett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354C4-E050-46FA-8673-CF4EB73C31D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-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1_experi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experiment w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y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Const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functions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Functions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o display the constants defined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Main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and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Functions.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EA678-E8D2-4E07-8E48-A3A3427FD5C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2a_exp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will add new constructs to the exp1 language and deal with their evalu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- add new constructs to the langu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 power operator   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(^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 factorial operator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(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Exp1.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No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parser/lexer are ready, but give parser errors for the new operators until they are added in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Exp1.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9067C-19F6-49C4-B531-2A31AC977B5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2b_exp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explore a different way to model the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exp1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language using different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Exp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tre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Explore th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Exp2.mo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file and compare it with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Exp1.mo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fi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BEE23-7E4D-4EF2-A5EF-0461C913E95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3_symbolicderiv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rules to derive ‘-’, ‘*’, sine, cosine and power expre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rules to simplify ‘-’, sine, cosine and power expre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800" spc="-1" strike="noStrike">
                <a:solidFill>
                  <a:srgbClr val="213159"/>
                </a:solidFill>
                <a:latin typeface="Courier New"/>
                <a:ea typeface="DejaVu Sans"/>
              </a:rPr>
              <a:t>SymbolicDerivative.m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EA506-FDCC-4703-959E-086A7F2F974E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4_assig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 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- add functions to pri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assignments present in the current program before the actual eval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environment after it was augmented with the assig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800" spc="-1" strike="noStrike">
                <a:solidFill>
                  <a:srgbClr val="213159"/>
                </a:solidFill>
                <a:latin typeface="Courier New"/>
                <a:ea typeface="DejaVu Sans"/>
              </a:rPr>
              <a:t>Assignment.m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66C04-BF80-4845-AD40-CB7E4B814FB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5a_assigntwo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- add functions to pri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a new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String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ype which can hold only integers as strings to the current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Exp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n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cases to evaluate expressions/assignments of the form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"2" + 1 + "1" + 1.0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in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eval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AssignTwoType.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8BE1D-123B-48C4-8CA0-255424E9455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5b_modassigntwo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explore a different way to structure your code within different pack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e code from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05a_assigntwotype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s now split over 4 pack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ompare the 05a/b projec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CCEB0-063E-4327-A7B6-0F649353DD1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experiment w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polymorphic ty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const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higher order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function that orders a list of any typ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function has as input a list and a compare function between the objects of that lis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the comparison functions for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Integers</a:t>
            </a:r>
            <a:r>
              <a:rPr b="0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,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Strings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and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Reals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est your function on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int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92A9A-D852-40E0-83BD-B06FAA20E38F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map function that applies a function over a list and returns a new list with the resul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three functions that transform fro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integer to re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integer to st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real to str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Use your map function and the two transformation functions to transform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intLis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o a list of reals and a list of string, then apply the ordering function from Assignment 1 on the newly created l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EF719-A94B-40EA-A7DE-204A634D053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lected Exercises in this Cou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6032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0_simples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(02b_exp2 option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 (option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769FF-3EED-4F66-AA65-0591697B7BA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I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map function that applies a print function over a list (of Strings) and prints the 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Use the transformer functions from real-&gt;string and integer-&gt;string from Assignment 2 to transform the real list or the integer list to a string list for prin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FDCC1-5EBF-4EBB-BCB7-52BB20D47B1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MC Overvie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213159"/>
                </a:solidFill>
                <a:latin typeface="Trebuchet MS"/>
              </a:rPr>
              <a:t>We are Switching to OMC Overview now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EB801-2ABC-4925-BA96-AC2C9088DAB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76160" y="-46440"/>
            <a:ext cx="746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Development Toolkit (OMDev)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OMDev is a pre-packaged pre-compiled kit containing all tools needed for OpenModelica development.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lvl="1" marL="754200" indent="-282600">
              <a:lnSpc>
                <a:spcPct val="8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Just unpack and set some environment variables. (Windows)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lvl="1" marL="754200" indent="-282600">
              <a:lnSpc>
                <a:spcPct val="8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apt-get build-dep openmodelica (Ubuntu/Debian Linux)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lvl="1" marL="754200" indent="-282600">
              <a:lnSpc>
                <a:spcPct val="8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port  install depends:openmodelica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MetaModelica Compiler (MMC) – for developing OMC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OpenModelica Compiler (OMC) – for browsing support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Eclipse plugin MDT – (Modelica Development Tooling), e.g. for compiler (OMC) development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Pre-compiled Corba (MICO or omniORB) for tool communication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Packaged Gnu compiler (GCC; Mingw version for Windows)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Emacs mode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Online (web) Subversion for version handling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Online (web) Codebeamer for bug reporting and management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Automatic regression testing using a test suite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Unit testing using the bootstrapped OpenModelica Compiler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Interactive MetaModelica debugger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8DA10-78C4-4C31-AFE3-C667B539D4D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2"/>
          <p:cNvSpPr/>
          <p:nvPr/>
        </p:nvSpPr>
        <p:spPr>
          <a:xfrm>
            <a:off x="250920" y="-79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Environment Archite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0" y="26146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6" name="Object 6"/>
          <p:cNvGraphicFramePr/>
          <p:nvPr/>
        </p:nvGraphicFramePr>
        <p:xfrm>
          <a:off x="546120" y="1509840"/>
          <a:ext cx="7918560" cy="39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09840"/>
                    <a:ext cx="7918560" cy="39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5F214-E966-4F26-B626-0C9A15523B9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Client-Server Archite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Object 3"/>
          <p:cNvGraphicFramePr/>
          <p:nvPr/>
        </p:nvGraphicFramePr>
        <p:xfrm>
          <a:off x="1233360" y="1201680"/>
          <a:ext cx="657072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1201680"/>
                    <a:ext cx="657072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5AD56-4E4B-4053-B277-D9E436955FBF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leased in OpenModelica 1.7.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Compiler/Interpreter – OMC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teractive session handler – OMSh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Notebook with DrModelica and DrControl –  OMNote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Eclipse plugin MD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MEdit connection 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MetaModelica Debug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New version in OpenModelica 1.8.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88D79-3122-4EF0-A65A-A64B061FA3DF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Compiler/Interpre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03040" y="1125360"/>
            <a:ext cx="876312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213159"/>
                </a:solidFill>
                <a:latin typeface="Trebuchet MS"/>
              </a:rPr>
              <a:t>OpenModelica 1.7.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213159"/>
                </a:solidFill>
                <a:latin typeface="Trebuchet MS"/>
              </a:rPr>
              <a:t>Currently implemented in 194 000 lines of MetaModelica (excl. generated code, external C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213159"/>
                </a:solidFill>
                <a:latin typeface="Trebuchet MS"/>
              </a:rPr>
              <a:t>Includes code generation, BLT-transformation, index reduction, connection to DASSL, etc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213159"/>
                </a:solidFill>
                <a:latin typeface="Trebuchet MS"/>
              </a:rPr>
              <a:t>Most of the Modelica 3.1 language including classes, functions, inheritance, modifications, import, etc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213159"/>
                </a:solidFill>
                <a:latin typeface="Trebuchet MS"/>
              </a:rPr>
              <a:t>Hybrid/Discrete event suppor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3FD13-2F59-4465-BBAD-DC377FFA346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rba Client-Server AP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304920" y="914400"/>
            <a:ext cx="71247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imple text-based (string) communication in Modelica Synta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API supporting model structure query and up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635040" y="2803680"/>
            <a:ext cx="7149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Call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fulfill the normal Modelica function call syntax.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veModel("MyResistorFile.mo",MyResisto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save the model MyResistor into the file “MyResistorFile.mo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reating new models it is most practical to send a model, e.g.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el Foo   end Foo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e.g.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or Port   end Por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4C9FB-04E3-4453-B04E-93782DA504A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ome of the Corba API f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03040" y="765000"/>
          <a:ext cx="8510760" cy="24054120"/>
        </p:xfrm>
        <a:graphic>
          <a:graphicData uri="http://schemas.openxmlformats.org/drawingml/2006/table">
            <a:tbl>
              <a:tblPr/>
              <a:tblGrid>
                <a:gridCol w="3237120"/>
                <a:gridCol w="5273640"/>
              </a:tblGrid>
              <a:tr h="4921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saveModel(A1&lt;string&gt;,A2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343080" indent="-335160" algn="just">
                        <a:lnSpc>
                          <a:spcPct val="68000"/>
                        </a:lnSpc>
                        <a:tabLst>
                          <a:tab algn="l" pos="0"/>
                          <a:tab algn="l" pos="343080"/>
                          <a:tab algn="r" pos="3392640"/>
                          <a:tab algn="l" pos="3649680"/>
                          <a:tab algn="l" pos="4564080"/>
                          <a:tab algn="l" pos="5478480"/>
                          <a:tab algn="l" pos="6392880"/>
                          <a:tab algn="l" pos="7307280"/>
                          <a:tab algn="l" pos="8221680"/>
                          <a:tab algn="l" pos="9136080"/>
                          <a:tab algn="l" pos="10050480"/>
                          <a:tab algn="l" pos="10326600"/>
                          <a:tab algn="l" pos="1077588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Saves the model (A2) in a file given by a string (A1). This call is also in typed API.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loadFile(A1&lt;string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Loads all models in the file. Also in typed API. Returns list of names of top level classes in the loaded file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loadModel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Loads the model (A1) by looking up the correct file to load i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$MODELICAPATH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Loads all models in that file into the symbol table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lass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class from the symbol tabl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omponent(A1&lt;ident&gt;,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annotate=&lt;expr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a component with name (A1), type (A2), and class (A3) as arguments. Optional annotations are given with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omponent(A1&lt;ident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a component (A1) within a class (A2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updateComponent(A1&lt;ident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annotate=&lt;expr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Updates an already existing component with name (A1), type (A2), and class (A3) as arguments. Optional annotations are given with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lassAnnotation(A1&lt;cref&gt;, annotate=&lt;expr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annotation given by A2( in the form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= classmod(...))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to the model definition referenced by A1. Should be used to add Icon Diagram and Documentation annotation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s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343080" indent="-154080" algn="just">
                        <a:lnSpc>
                          <a:spcPct val="6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a list of the component declarations within class A1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154080" algn="just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{Atype,varidA,”commentA”},{Btype,varidB,”commentB”}, {...}}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Annotations(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a lis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...}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of all annotations of all components in A1, in the same order as the components, one annotation per component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Cou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components in a class, e.g retur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2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there are 2 component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(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belonging class, component name and type name of the nth component of a class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A.B.C,R2,Resistor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where the first component is numbered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flattened annotation record of the nth component  (A2) (the first is has no 1) within class/component A1. Consists of a comma separated string of 15 values, see Annotations in Section 2.4.4 below, e.g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false,10,30,...”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Modification(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?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modification of the nth component  (A2) where the first  has no 1) of class/component A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InheritanceCou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inherited classes of a clas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InheritedClass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type name of the nth inherited class of a class. The first class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nnectionCou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connections in the mode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ion, as a comma separated pair of connectors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R1.n,R2.p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ion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ion annotation as comma separated list of values of a flattened record, see Annotations in Section 2.4.4  below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onnection(A1&lt;cref&gt;,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 annotate=&lt;expr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connectio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connect(A1,A2)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to model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with annotation given by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update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A3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=&lt;expr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Updates an already existing connection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A3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connection connect(A1,A2) in class given by A3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Equation(A1&lt;cref&gt;,A2&lt;expr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expr&gt;)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the equation A2=A3 to the model named by A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EquationCou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of equations (as a string) in the model named A1. (This includes connection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Equation(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(A2) equation of the model named by A1.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der(x)=-1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or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connect(A.b,C.a)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NthEqua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nth (A2) equation in the model named by A1. The first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nnectorCou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of connectors (as a string) of a class A1. NOTE: partial code instantiation of inheritance is performed before investigating the connector count, in order also to get the inherited connector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(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 of the nth connector, e.g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n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connector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05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Icon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or icon layer annotation as comma separated list of values of a flat record, see Annotation below. NOTE: Since connectors can be inherited, a partial instantiation of the inheritance structure is performed. The first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DiagramAnnotation(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or diagram layer annotation as comma separated list of values of a flat record, see Annotation below. NOTE: Since connectors can be inherited, a partial instantiation of the inheritance structure is performed. The first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IconAnnotation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Icon Annotation of the class named by A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DiagramAnnotation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Diagram annotation of the class named by A1. NOTE: Since the Diagram annotations can be found in base classes a partial code instantiation is performed that flattens the inheritance hierarchy in order to find all annotation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Packages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Packages in a class/package named by A1 as a list, e.g.: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Electrical,Blocks,Mechanics, Constants,Math,SIunits}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Packages(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package definitions in the global scop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Names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class defintions in a class/packag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Names(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class definitions in the global scop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Restriction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kind of restricted class of &lt;cref&gt;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model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connector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unction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packag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etc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Type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typ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rimitive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of primitive typ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onnector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connector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Model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model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Record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record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Block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block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Function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function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ackage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packag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lass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class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arameter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parameter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onsta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constant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rotected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protected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Class(A1&lt;cref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Tabl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Model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 table and has restriction model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Package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 table and has restriction packag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EDC85-DBC8-4717-94D3-02B3FF669E0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lat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0492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ll OpenModelica GUI tools (OMShell, OMNotebook, ...) are developed on top of the Qt4 GUI library, portable between Windows, Linux, M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Both compilers (OMC, MMC) are portable between the three platforms and compiled nigh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Windows – main release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Linux – main development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Mac – avail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6ED43-813A-4F5C-888C-04F723A225F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Switching Work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404640" y="608040"/>
            <a:ext cx="8332920" cy="624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4371840" cy="2324160"/>
          </a:xfrm>
          <a:prstGeom prst="rect">
            <a:avLst/>
          </a:prstGeom>
          <a:ln w="0">
            <a:noFill/>
          </a:ln>
        </p:spPr>
      </p:pic>
      <p:sp>
        <p:nvSpPr>
          <p:cNvPr id="107" name="Line 5"/>
          <p:cNvSpPr/>
          <p:nvPr/>
        </p:nvSpPr>
        <p:spPr>
          <a:xfrm>
            <a:off x="2484360" y="3429000"/>
            <a:ext cx="151128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265200" y="1800360"/>
            <a:ext cx="465516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clean work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import many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9BBBC-C855-4A25-B27D-7BEF2661FD2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Switching to Java Persp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31708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83B0C-AE42-4154-B5DB-6A42A1A9CFF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7_OMCAndCor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send commands to the OMC Compiler (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omc.exe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) via COR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OMCProxy.java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has functionality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tarting the omc process if is not already sta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starting is a bit different for Windows/Lin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nding commands to OM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logging fac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f you need clients in C++ or Python che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ea typeface="DejaVu Sans"/>
                <a:hlinkClick r:id="rId1"/>
              </a:rPr>
              <a:t>http://www.ida.liu.se/labs/pelab/modelica/OpenModelica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developer p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DCDC8-A955-49BE-B118-19FC09551D2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Creating the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tretch/>
        </p:blipFill>
        <p:spPr>
          <a:xfrm>
            <a:off x="468360" y="627120"/>
            <a:ext cx="8307360" cy="62308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"/>
          <p:cNvPicPr/>
          <p:nvPr/>
        </p:nvPicPr>
        <p:blipFill>
          <a:blip r:embed="rId2"/>
          <a:stretch/>
        </p:blipFill>
        <p:spPr>
          <a:xfrm>
            <a:off x="0" y="2095560"/>
            <a:ext cx="4762440" cy="47624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"/>
          <p:cNvPicPr/>
          <p:nvPr/>
        </p:nvPicPr>
        <p:blipFill>
          <a:blip r:embed="rId3"/>
          <a:stretch/>
        </p:blipFill>
        <p:spPr>
          <a:xfrm>
            <a:off x="4381560" y="209556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289" name="Oval 6"/>
          <p:cNvSpPr/>
          <p:nvPr/>
        </p:nvSpPr>
        <p:spPr>
          <a:xfrm>
            <a:off x="2266920" y="6308640"/>
            <a:ext cx="936720" cy="549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Line 7"/>
          <p:cNvSpPr/>
          <p:nvPr/>
        </p:nvSpPr>
        <p:spPr>
          <a:xfrm flipV="1">
            <a:off x="3274920" y="3492000"/>
            <a:ext cx="2376720" cy="2824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Line 8"/>
          <p:cNvSpPr/>
          <p:nvPr/>
        </p:nvSpPr>
        <p:spPr>
          <a:xfrm>
            <a:off x="1258920" y="5013360"/>
            <a:ext cx="936720" cy="13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Line 9"/>
          <p:cNvSpPr/>
          <p:nvPr/>
        </p:nvSpPr>
        <p:spPr>
          <a:xfrm flipH="1">
            <a:off x="1108080" y="1125360"/>
            <a:ext cx="2967120" cy="352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8B50F-F757-40D4-9EBB-705E73B837A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ank you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dministrative Ques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77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  <a:ea typeface="DejaVu Sans"/>
              </a:rPr>
              <a:t>What would you like to implement tomorro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77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  <a:ea typeface="DejaVu Sans"/>
              </a:rPr>
              <a:t>in the OpenModelica Compil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47880"/>
            <a:ext cx="746748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mport Project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7920" indent="-27792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le → Impor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54200" indent="-28260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General → Existing projects into workspac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0" y="2340000"/>
            <a:ext cx="9144000" cy="39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23A9D-8C57-4420-A648-5C30B3CDD8A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lect and Open all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5EF4AD-1A42-436F-9581-E5E08C9B737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on't build projects automatic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123840" y="720720"/>
            <a:ext cx="8877240" cy="52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B9E98-A243-410F-811E-8EF35F807CA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efresh all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-36360" y="620640"/>
            <a:ext cx="9180360" cy="5738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02:12:12Z</dcterms:created>
  <dc:creator>Adrian Pop [adrpo@ida.liu.se, http://www.ida.liu.se/~adrpo]</dc:creator>
  <dc:description/>
  <dc:language>en-US</dc:language>
  <cp:lastModifiedBy>Martin Sjolund</cp:lastModifiedBy>
  <cp:lastPrinted>2001-06-05T14:43:50Z</cp:lastPrinted>
  <dcterms:modified xsi:type="dcterms:W3CDTF">2011-09-17T10:39:23Z</dcterms:modified>
  <cp:revision>69</cp:revision>
  <dc:subject>MetaModelica</dc:subject>
  <dc:title>MetaModelica Tutorial and Exercises</dc:title>
</cp:coreProperties>
</file>